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370-3693-40C2-BC5F-C67CBF27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BE5-5CB8-4B52-9AA4-D19979F0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D32-5D0F-477F-944E-E485A1CF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19A-B5A1-456A-9296-8D55B8DB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89A-57BE-4D63-B483-8697070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5E6-D7FE-47F9-B417-FEE73B16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50C-2BE7-4CB6-A7F1-0DDE5B7E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4C1-E137-4C2C-8D64-9094E2B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341-36A1-45E8-BA0A-6DE7AB7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80F-21AD-444A-8562-6733FA9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4A5-2F8D-4DEF-A120-2EC59A5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C4E-27FC-4090-867D-0A683F6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3229-5098-407E-A3D4-77331E032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585" t="0" r="6797" b="0"/>
          <a:stretch/>
        </p:blipFill>
        <p:spPr>
          <a:xfrm>
            <a:off x="0" y="47628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10138" t="12213" r="12796" b="12189"/>
          <a:stretch/>
        </p:blipFill>
        <p:spPr>
          <a:xfrm>
            <a:off x="250920" y="907920"/>
            <a:ext cx="5976720" cy="439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82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16490" b="0"/>
          <a:stretch/>
        </p:blipFill>
        <p:spPr>
          <a:xfrm>
            <a:off x="179280" y="260280"/>
            <a:ext cx="6121440" cy="4849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6520" y="549360"/>
            <a:ext cx="30045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2924280"/>
            <a:ext cx="361260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640" y="1700280"/>
            <a:ext cx="50011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еустремл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640" y="4365720"/>
            <a:ext cx="610164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ение бы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мелым исследовател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240" y="333360"/>
            <a:ext cx="6124320" cy="612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енно та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ыцари нау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явля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линной горд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ей больш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малой родин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торых воспит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ервую очередь сем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ейный уклад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адиции и огром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юбовь ро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68880" y="5805360"/>
            <a:ext cx="42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Н.П. Крав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7673E-006 L -0.3474 -0.26348 E">
                                      <p:cBhvr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398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14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3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360"/>
            <a:ext cx="820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известный известный учены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трихи к портрету Н.П. Крав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461800">
            <a:off x="3276360" y="3284280"/>
            <a:ext cx="2995560" cy="29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82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67331" t="26385" r="0" b="14450"/>
          <a:stretch/>
        </p:blipFill>
        <p:spPr>
          <a:xfrm>
            <a:off x="0" y="0"/>
            <a:ext cx="58262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982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03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54800" y="333360"/>
            <a:ext cx="213192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000" y="189000"/>
            <a:ext cx="6119280" cy="5041800"/>
            <a:chOff x="108000" y="189000"/>
            <a:chExt cx="6119280" cy="50418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8000" y="189000"/>
              <a:ext cx="2958120" cy="50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305160" y="189000"/>
              <a:ext cx="2922120" cy="50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982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202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4254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6072120" cy="455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12610" t="0" r="11779" b="0"/>
          <a:stretch/>
        </p:blipFill>
        <p:spPr>
          <a:xfrm>
            <a:off x="6588000" y="333360"/>
            <a:ext cx="21607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6:11:51Z</dcterms:created>
  <dc:creator>сергей</dc:creator>
  <dc:description/>
  <dc:language>en-US</dc:language>
  <cp:lastModifiedBy>сергей</cp:lastModifiedBy>
  <dcterms:modified xsi:type="dcterms:W3CDTF">2017-03-13T16:14:48Z</dcterms:modified>
  <cp:revision>4</cp:revision>
  <dc:subject/>
  <dc:title>Слайд 1</dc:title>
</cp:coreProperties>
</file>